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EC015-2321-4E53-9978-836502D00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A1A3-F7B1-46C9-A10C-74021AE9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E5208-4ABD-43DE-B0E8-E37FA551C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4C9C1-CDFB-40C8-8471-5C3BBDCED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3BB5C-FE3D-43B6-B10C-52F002DAE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F91D6-3031-46F3-8CE9-3928565C9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71091-1B4D-4803-A873-B7AD9CC1D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E9A08-4FA9-4DEC-8F45-2DD3CF814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A20F8-1E55-4B3C-9ED7-18128CFF3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8442B-C7D9-4A7A-9259-B2174C271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72CF-CE86-4422-8072-3105B7ABC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C9718-D27E-4EDC-9EC7-5788CCEB1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8B8E2-5951-4959-87DB-9548154EE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CE8D0-F86C-44F6-9236-E8AAF1B2A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BF225-F7F9-49EF-A277-BA254A765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BB9E8-5F7C-43D8-9180-D95943763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19105-921A-4F2C-8128-B301A796B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23787-090D-497F-A924-1014747D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C582-C632-40B9-AB03-9FB2DA8D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616E-FE3F-474A-8C6F-FEE8A3F98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74791-7546-409D-93D8-FF3F41AB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C633-1EF0-42E6-B4CA-2EFB8B562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96907-5CD5-49E3-B182-1EFB1EC08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AB73-6968-4EEB-8F4D-F3490B61F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9066-3BC8-45CD-9CDA-2B4387B09B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4846-94A2-437A-A112-F46B9806EC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minishing Local Control</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cause of the continual increases in funds allocated to public education by most of the states, local control of education is slowly decrea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itizens feel threatened by nationwide trends toward centralization and standardiz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ral Area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ral areas of the country no longer have the strong influence on legislation they once enjoy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ban areas have lost the financial advantage they once had over rural ar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ity school districts suffer financially because of higher costs and the need to provide social and welfare services that are minimized in most rural are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much has benn done to decrease the extremely large number of school districts that once existed I the United States.  Just as many school districts are too small for efficient operation, many city districts are too large.  Most states have been able to provide for the financial needs of small districts and are working toward a satisfactory solution for the municipal overburden of large ci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Control Not Guaranteed</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no guarantee of the extent or the duration of local control of sch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the states have gradually assumed more and more responsibility for financing education, the role of the local district in its own government has decrea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Fiscal Contro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od tax system has a minimum of tax shift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are often detrimental to local school districts that have limited control over such matt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bility of the population is significant, and people want good schools throughout the nation, but the public may not be willing to pay for th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iance on Property Taxe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al property tax has been the major source of local funds for education since the early history of the nation.  States have recently begun to place limits on such taxes and, in a few instance, have placed limits on annual expenditure increases for public edcu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Nonproperty Tax</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as effective or productive as they appear to be in theory, yet some states are branching to other sources such local sales tax and income or earnings tax.</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ends in Local Taxation Practices</a:t>
            </a:r>
            <a:endParaRPr b="1" lang="en-US" sz="32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property tax administr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ed competition for the tax dollar among various agencies and institutions of govern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ation of problems created by municipal overbur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state support for educ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ed resistance to tax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1:31:18Z</dcterms:created>
  <dc:creator>Cynthia Altemueller</dc:creator>
  <dc:description/>
  <dc:language>en-US</dc:language>
  <cp:lastModifiedBy>AEURY</cp:lastModifiedBy>
  <dcterms:modified xsi:type="dcterms:W3CDTF">2006-01-27T22:12:46Z</dcterms:modified>
  <cp:revision>3</cp:revision>
  <dc:subject/>
  <dc:title>Finance in Education</dc:title>
</cp:coreProperties>
</file>